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67EB-7CEB-4A66-9773-863BE59AA6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3F4E-866E-4144-BFDB-FF3FF5B6A93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2A1-D377-40D3-A100-E4330E3B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CF8-FD2A-4B86-A606-F3CA52CF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63C-F131-4C75-9BD3-1178EB21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42A-377C-41B9-8D9A-A7F9AB97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5DC-B0F1-4F20-86E1-A2C8014E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75F-C818-4B80-BA36-7DA9A951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416-9982-4472-BA44-B32FF1F7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4CA-24A2-4457-A846-8B06EB4C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CF3-DC1F-4021-A4C2-9D0F3A6D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756-A29C-4043-802A-689ADF6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B37-BE4B-4C84-9BD0-52BC7DC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71C-28DE-4E02-B72A-6728B300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1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2D89-6B4C-48F9-8A3D-09B16453AC8D}" type="datetime">
              <a:rPr b="0" lang="it-IT" sz="11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Biblioteca Interdipartimentale di Scienze Giuridich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53B0BCF6-D560-48D4-B8BD-B93DEBB96BA5}" type="slidenum">
              <a:rPr b="0" lang="it-IT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0067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9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noscenza ed uso degli strumenti cartacei ed elettronici per la ricerca bibliografica in ambito giuridico ed economico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822433"/>
              </a:solidFill>
              <a:latin typeface="Arial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0" y="2759040"/>
            <a:ext cx="9143640" cy="4098960"/>
            <a:chOff x="0" y="2759040"/>
            <a:chExt cx="9143640" cy="4098960"/>
          </a:xfrm>
        </p:grpSpPr>
        <p:pic>
          <p:nvPicPr>
            <p:cNvPr id="54" name="Picture 15" descr="Fondino"/>
            <p:cNvPicPr/>
            <p:nvPr/>
          </p:nvPicPr>
          <p:blipFill>
            <a:blip r:embed="rId1"/>
            <a:stretch/>
          </p:blipFill>
          <p:spPr>
            <a:xfrm>
              <a:off x="0" y="3425760"/>
              <a:ext cx="9142560" cy="34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3" descr="logo +marchio"/>
            <p:cNvPicPr/>
            <p:nvPr/>
          </p:nvPicPr>
          <p:blipFill>
            <a:blip r:embed="rId2"/>
            <a:stretch/>
          </p:blipFill>
          <p:spPr>
            <a:xfrm>
              <a:off x="107640" y="4265640"/>
              <a:ext cx="903600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6" descr="fascia"/>
            <p:cNvPicPr/>
            <p:nvPr/>
          </p:nvPicPr>
          <p:blipFill>
            <a:blip r:embed="rId3"/>
            <a:stretch/>
          </p:blipFill>
          <p:spPr>
            <a:xfrm>
              <a:off x="2088720" y="2759040"/>
              <a:ext cx="705348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Segnaposto data 10"/>
          <p:cNvSpPr/>
          <p:nvPr/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egnaposto piè di pagina 11"/>
          <p:cNvSpPr/>
          <p:nvPr/>
        </p:nvSpPr>
        <p:spPr>
          <a:xfrm>
            <a:off x="121932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ttangolo 1"/>
          <p:cNvSpPr/>
          <p:nvPr/>
        </p:nvSpPr>
        <p:spPr>
          <a:xfrm>
            <a:off x="2116080" y="3500280"/>
            <a:ext cx="219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2f2f2"/>
                </a:solidFill>
                <a:latin typeface="Arial"/>
                <a:ea typeface="Times New Roman"/>
              </a:rPr>
              <a:t>   </a:t>
            </a:r>
            <a:r>
              <a:rPr b="0" lang="it-IT" sz="1000" spc="-1" strike="noStrike">
                <a:solidFill>
                  <a:srgbClr val="f2f2f2"/>
                </a:solidFill>
                <a:latin typeface="Arial"/>
                <a:ea typeface="Times New Roman"/>
              </a:rPr>
              <a:t>FACOLTÀ DI GIURISPRUDENZ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ttangolo 2"/>
          <p:cNvSpPr/>
          <p:nvPr/>
        </p:nvSpPr>
        <p:spPr>
          <a:xfrm>
            <a:off x="2268360" y="4478400"/>
            <a:ext cx="33433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2f2f2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ttangolo 4"/>
          <p:cNvSpPr/>
          <p:nvPr/>
        </p:nvSpPr>
        <p:spPr>
          <a:xfrm>
            <a:off x="5726160" y="1444680"/>
            <a:ext cx="32130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Palatino Linotype"/>
              </a:rPr>
              <a:t>17-18 ottobre 2019 ore 9-12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Palatino Linotype"/>
              </a:rPr>
              <a:t>Aula V Facoltà di Giurispruden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Palatino Linotype"/>
              </a:rPr>
              <a:t>Iscrizioni on line alla pagin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https://goo.gl/forms/IxLpWOk92xjRlhSk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Palatino Linotype"/>
              </a:rPr>
              <a:t>Entro il 15 ottob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magine 3" descr=""/>
          <p:cNvPicPr/>
          <p:nvPr/>
        </p:nvPicPr>
        <p:blipFill>
          <a:blip r:embed="rId4"/>
          <a:stretch/>
        </p:blipFill>
        <p:spPr>
          <a:xfrm>
            <a:off x="1147680" y="1716120"/>
            <a:ext cx="4013280" cy="2435040"/>
          </a:xfrm>
          <a:prstGeom prst="rect">
            <a:avLst/>
          </a:prstGeom>
          <a:ln w="0">
            <a:noFill/>
          </a:ln>
        </p:spPr>
      </p:pic>
      <p:pic>
        <p:nvPicPr>
          <p:cNvPr id="63" name="Immagine 14" descr=""/>
          <p:cNvPicPr/>
          <p:nvPr/>
        </p:nvPicPr>
        <p:blipFill>
          <a:blip r:embed="rId5"/>
          <a:stretch/>
        </p:blipFill>
        <p:spPr>
          <a:xfrm rot="21197400">
            <a:off x="4027320" y="2279160"/>
            <a:ext cx="774720" cy="349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6"/>
          <a:stretch/>
        </p:blipFill>
        <p:spPr>
          <a:xfrm rot="1700400">
            <a:off x="3695400" y="1898280"/>
            <a:ext cx="4572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https://web.uniroma1.it/sbs/sites/default/files/styles/banner/public/banner/EasyBixy500_168.png?itok=sMBbg5P5"/>
          <p:cNvPicPr/>
          <p:nvPr/>
        </p:nvPicPr>
        <p:blipFill>
          <a:blip r:embed="rId7"/>
          <a:stretch/>
        </p:blipFill>
        <p:spPr>
          <a:xfrm rot="2038200">
            <a:off x="1417320" y="1953720"/>
            <a:ext cx="792000" cy="49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Library Logo"/>
          <p:cNvPicPr/>
          <p:nvPr/>
        </p:nvPicPr>
        <p:blipFill>
          <a:blip r:embed="rId8"/>
          <a:stretch/>
        </p:blipFill>
        <p:spPr>
          <a:xfrm rot="19218000">
            <a:off x="1572840" y="2596680"/>
            <a:ext cx="1079640" cy="22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9"/>
          <a:stretch/>
        </p:blipFill>
        <p:spPr>
          <a:xfrm>
            <a:off x="3998880" y="2971800"/>
            <a:ext cx="933480" cy="244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OPAC SBN - Catalogo del Servizio Bibliotecario Nazionale"/>
          <p:cNvPicPr/>
          <p:nvPr/>
        </p:nvPicPr>
        <p:blipFill>
          <a:blip r:embed="rId10"/>
          <a:stretch/>
        </p:blipFill>
        <p:spPr>
          <a:xfrm rot="916200">
            <a:off x="2970360" y="2398320"/>
            <a:ext cx="863280" cy="452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https://acnpsearch.unibo.it/bundles/uniboacnp/images/acnp_logo-sm.png"/>
          <p:cNvPicPr/>
          <p:nvPr/>
        </p:nvPicPr>
        <p:blipFill>
          <a:blip r:embed="rId11"/>
          <a:stretch/>
        </p:blipFill>
        <p:spPr>
          <a:xfrm>
            <a:off x="2351160" y="2930400"/>
            <a:ext cx="647640" cy="250920"/>
          </a:xfrm>
          <a:prstGeom prst="rect">
            <a:avLst/>
          </a:prstGeom>
          <a:ln w="0">
            <a:noFill/>
          </a:ln>
        </p:spPr>
      </p:pic>
      <p:pic>
        <p:nvPicPr>
          <p:cNvPr id="70" name="Immagine 4" descr=""/>
          <p:cNvPicPr/>
          <p:nvPr/>
        </p:nvPicPr>
        <p:blipFill>
          <a:blip r:embed="rId12"/>
          <a:stretch/>
        </p:blipFill>
        <p:spPr>
          <a:xfrm>
            <a:off x="2627280" y="1844640"/>
            <a:ext cx="444600" cy="312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\\SG-SRV-02\USERS$\tiziana.leone\Desktop\information-160948_960_720.png"/>
          <p:cNvPicPr/>
          <p:nvPr/>
        </p:nvPicPr>
        <p:blipFill>
          <a:blip r:embed="rId13"/>
          <a:stretch/>
        </p:blipFill>
        <p:spPr>
          <a:xfrm>
            <a:off x="4186080" y="3735360"/>
            <a:ext cx="1635120" cy="82872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4"/>
          <p:cNvSpPr/>
          <p:nvPr/>
        </p:nvSpPr>
        <p:spPr>
          <a:xfrm>
            <a:off x="4216320" y="3895560"/>
            <a:ext cx="96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hiedi al biblioteca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asellaDiTesto 5"/>
          <p:cNvSpPr/>
          <p:nvPr/>
        </p:nvSpPr>
        <p:spPr>
          <a:xfrm>
            <a:off x="6012000" y="3454560"/>
            <a:ext cx="30240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rogramma completo al link: https://www.giurisprudenza.uniroma1.it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Durante il corso sono previste delle esercitazioni, a tal fine i partecipanti sono invitati a portare un proprio dispositivo per effettuare le ricerch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I partecipanti riceveranno un attestato di frequenz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I corsi non prevedono l’acquisizione di C.F.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er informazioni e comunicazioni: bisg@uniroma1.i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CasellaDiTesto 7"/>
          <p:cNvSpPr/>
          <p:nvPr/>
        </p:nvSpPr>
        <p:spPr>
          <a:xfrm>
            <a:off x="2354400" y="5311800"/>
            <a:ext cx="308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Biblioteca Interdipartimentale di Scienze Giuridiche (BISG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6:13:10Z</dcterms:created>
  <dc:creator>- -</dc:creator>
  <dc:description/>
  <dc:language>en-US</dc:language>
  <cp:lastModifiedBy>Tiziana Leone</cp:lastModifiedBy>
  <dcterms:modified xsi:type="dcterms:W3CDTF">2019-09-12T13:19:08Z</dcterms:modified>
  <cp:revision>154</cp:revision>
  <dc:subject/>
  <dc:title>Presentazione di PowerPoint</dc:title>
</cp:coreProperties>
</file>